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43AC-5B72-4FFE-A798-247E0B7D1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1B91-05DA-4D6E-98BA-6A84D62F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03CF-B468-45D1-92C8-81B59CA9E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BF53-CC2E-4580-AE21-FE6E6508B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3051-735F-46E2-8175-EC0126413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D0F33-60B4-4B47-AB4E-935B1CCC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0FEF-AFE5-4426-A1CA-BA6013A6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5B36-10D9-45E0-906A-246F1B5E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1FA9-E468-403B-B21E-5FB1C270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5C9B-F7BD-45C5-A1FC-C8B8AA26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323F-822E-4BBC-836B-01B290EC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FE0C-E2B5-44B7-912B-B51461E4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7279E-5ABF-406E-AE1D-AB216EF3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B0B3-3D20-4F44-9BAA-CA1831B1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6CC3D-9CBF-448D-8CB2-81CF1759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AE5AB-5047-49B9-AB36-45FD8D9AD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EE67-6280-460B-A635-D07736DB5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D242-AC12-477A-B933-5E93A4D3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581B-BC64-4294-A19E-6D7E306A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FF02-A83A-4F46-9238-E9B335A4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C576-DB13-47C5-85C9-350BD91A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F143-BBC8-4993-93D2-C672FA2A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AA1A-57ED-456F-9B6A-669716F8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6BE6-8779-4398-A41D-58566F3F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7C31-FF40-4762-B98A-F630B79CA4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58A7-5D3B-4E80-AB7E-877079B9DD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What Should We Teach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940 - Harvard Stud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commended three Carnegie Units - English, Science, and math - two in Social Stud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im of all courses - think effectively, communicate thought, make relevant judgments, discriminate among valu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Best Curriculum for General Educa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Opposing Positions of Curriculu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bject-centered curriculu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udent-centered curriculu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ciety - Centered curriculu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ubject-Centered Curriculu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oses that education exists primarily to transmit formal knowledge to a new generation and prepare them to add to i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aims of education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teracy -  Command of basic ski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itical thinking - problem solv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od work hab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re to lea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ociety-centered curriculu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rvival and smooth functioning of society is what education is all abou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storically America has taken this approa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ational identity from Europ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ral lessons in the McGuffey read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ociety-centered curriculu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ed aims such 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vic Responsi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cational Prepa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ment of Democratic Attitu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l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onal and Social adjus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thical values and behavi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rn for the welfare of oth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tudent-Centered Curriculu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us on individual  rights, talents, fulfillment, happiness, and individual social, economic, and intellectual advance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tudent-Centered Curriculu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vor aims such 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f-real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f-esteem, emotional stability, mental heal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ive expr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vidual tal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lth and Saf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se use of leisure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 Balanced Approach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eneral education is about students, society, and knowledge and if any is neglected, we all los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f you knew the future of your students and what they would become, how would you design instruction?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at courses or instruction is needed to prepare children to become equal participants in a free society?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problem of general education is finding the most appropriate common curriculum to meet the difficult requirements of honoring individuals while also serving the democratic purposes of society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n our society, general education is provided in elementary school by offering a single board and comprehensive curriculum to all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n secondary education, the problem of a general education is much harder.  Students are ready for diversification and specialization.  Educators see high school as the last chance to complete the task of general education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Historical Perspectiv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883 - Committee of Te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ppointed by NEA to standardize the high school curriculu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reat detail about classic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ocus on science, English, math, social studi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ttle to no concern for vocational study or the art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918 - Commission on the Reorganization of Secondary Education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us on what was needed in college  and what was needed in l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l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on expressions of wri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thema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thy home memb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tizen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thy use of leis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thical Charac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940 - Harvard Stud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General Education in a Free Socie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oal is to help each person fulfill unique function in life and to become part of socie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asic general education was proposed for al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5T06:36:55Z</dcterms:created>
  <dc:creator>Carlette Hardin</dc:creator>
  <dc:description/>
  <dc:language>en-US</dc:language>
  <cp:lastModifiedBy>User</cp:lastModifiedBy>
  <dcterms:modified xsi:type="dcterms:W3CDTF">2003-07-19T03:08:26Z</dcterms:modified>
  <cp:revision>8</cp:revision>
  <dc:subject/>
  <dc:title>What Should We Teach</dc:title>
</cp:coreProperties>
</file>